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518-53A7-44A8-962E-05454AB1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AEB-4919-44F3-9EC0-3B5A4B85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D08-6DF1-4BDA-99B5-78E6B09D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B38-EE05-4A35-882D-1F149228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D1A4-8774-4541-AA71-F4113A82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D2F5-D1AF-4B94-825E-EE67C523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37EC-C3B4-4F41-ADEA-1C1A2F1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3D6-E5A9-45E2-A00A-198F411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A00D-5658-4D74-B8A9-74395F4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74DF-417A-49E0-95ED-83C6F0D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5BF-3EAD-4AA0-A569-94DE32D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D75-BCF6-4BA6-8E6C-3B20499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CF67-183D-4215-9080-D309703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288-4ED5-460F-8FC5-779F441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6218-A179-4C99-8579-AC8BCCE9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F0C-B69A-4AD8-8039-A08B3311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8F5D-31A6-4098-994C-6AD8837D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8F16-65E5-45CA-AC04-4EB154E1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839C-0F68-491F-BE6D-BF24997B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7D62-99FE-4434-8B75-AAA3EAE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50AD-3A34-4EDB-BEC2-2F5948C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3FD1-24CF-45D5-8AFE-EDE1D231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12A-5BC6-4182-9E20-CAC1614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EF92-450A-447A-8388-4CC68BE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8C99-E637-4CF7-BA9F-80A0FCD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04B3-F07C-44B9-B4C3-EC0D0AA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EF7C-2377-46EA-A5A2-A908ED1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5F5C-91C1-4753-95A7-50FDAF1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1313-0A05-48C0-AD49-DC5644EC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CF44-2401-4C72-9B50-F5C445CE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4B2F-E885-4520-8E57-DCE71F2A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37E6-8221-4F58-8A36-58F47236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A86F-F44E-4C5D-84A3-06199D7A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DC0-02A0-4A40-9932-FDB8971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5A8C-B481-4BE6-98BC-4309022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832C-1D44-46CE-AF51-B5648BE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549A-047A-44D8-A8DF-EE63706B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6322D-7A0C-4EEC-9837-D10B789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AB1B-2FE6-4611-B78A-14F9122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1F4F-2AF8-47F8-B340-C49B883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11AA-308D-4D53-AF63-5FFE65E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3C9C-A646-4504-99A4-9030B57F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03FB-0500-4E4C-BF3A-B4EC8606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CF1D-475C-42D6-B43E-5F7AC44F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6EC-4FFF-4FCB-A2C5-8D186610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61FE-3FC1-4E08-B127-F9D52DC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A166-9ACD-4F68-9FF7-7DFEF7A9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3740-E414-4CDA-956C-B3424C69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0E657-77EF-4DDC-9400-30F8956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0796-B84F-4EC1-837E-86F3FBE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1FD1-13D1-405C-AA4F-340DAA6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348B-55FD-4BA8-A72D-7523F68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31DC-0C49-4ED4-99D7-6C156DC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08CE-E55B-4B87-B29D-EA3F934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22A9-23A9-43F4-8D87-F1B91D50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1CD-39D5-41CF-835D-A7F3D6FB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4F03-0720-4FC6-9374-6DC414FF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F226-C6E5-459E-A054-92A0F338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9D81-3634-411C-BCBA-C969917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FE04-B00B-40DA-938E-EB997F4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1BCE-C4BB-4C4C-95D7-EE05ED99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E471-70BF-44E2-A6FF-21B977F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C16C-3C2D-4074-AC2D-04ACCA60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39316-4A15-4B77-99ED-A7A9B84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EC2A-537F-4C78-938A-6571CF0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3B1E-90AC-4270-B811-BB39591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BE4-7854-4D4D-B202-E2EAB94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2250-2887-49DF-8D68-D32F3FD3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1819E-F20A-4FE1-9D34-D8C98B36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C813-C5F1-44BF-929B-1BC9B71E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F7AB-EB24-4730-945A-38574C01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4FAB-3DBC-4257-A4B2-DE5CCF32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5CC0-66CC-47C2-A30A-65C4D8E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A0EA-1D91-44D7-AC16-F98A1F9B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0946-743F-4E6B-B857-B6D93D2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B4BF9-CEDC-4F64-B2C3-F72AA3C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3505-E7AC-4D90-892E-CA945BA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694-15DC-4ED7-8505-B6B51D5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590DF-AC0E-4E56-963F-8EBA7AEF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F3CF-F97B-4507-B02B-2658A84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4FA4-2971-4CB4-8F2F-9EA85FD9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B585-DED5-43A1-83DE-BAA44DD9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1AC4-78BD-4A9E-A23F-00FD7718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139-74D5-4B67-8EE3-575356F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FEA-5FC0-489F-BAE5-669CB8A2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149-E660-47C5-830F-DCFD598161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C58-0A84-49E8-BBED-F7328F6F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966-7004-466B-B924-1CC6525ADC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187-531E-4BD3-858E-BD3D16C23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09A-A4B0-457F-A85D-7A0F10B98A7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D86E-8F00-468C-B68A-AE82B5B0B3E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Program Files\Microsoft Office\MEDIA\CAGCAT10\j0217698.wmf"/>
          <p:cNvPicPr/>
          <p:nvPr/>
        </p:nvPicPr>
        <p:blipFill>
          <a:blip r:embed="rId3"/>
          <a:stretch/>
        </p:blipFill>
        <p:spPr>
          <a:xfrm>
            <a:off x="838080" y="838080"/>
            <a:ext cx="1747800" cy="1694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Tasha.Gorman\AppData\Local\Microsoft\Windows\Temporary Internet Files\Content.IE5\VURKP26B\MC900120951[1].wmf"/>
          <p:cNvPicPr/>
          <p:nvPr/>
        </p:nvPicPr>
        <p:blipFill>
          <a:blip r:embed="rId4"/>
          <a:stretch/>
        </p:blipFill>
        <p:spPr>
          <a:xfrm>
            <a:off x="838080" y="3733920"/>
            <a:ext cx="175284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C:\Users\Tasha.Gorman\AppData\Local\Microsoft\Windows\Temporary Internet Files\Content.IE5\QMKF3ZDY\MP900422786[1].jpg"/>
          <p:cNvPicPr/>
          <p:nvPr/>
        </p:nvPicPr>
        <p:blipFill>
          <a:blip r:embed="rId5"/>
          <a:stretch/>
        </p:blipFill>
        <p:spPr>
          <a:xfrm>
            <a:off x="6286680" y="43052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C:\Users\Tasha.Gorman\AppData\Local\Microsoft\Windows\Temporary Internet Files\Content.IE5\T4I9C23C\MM900041072[1].gif"/>
          <p:cNvPicPr/>
          <p:nvPr/>
        </p:nvPicPr>
        <p:blipFill>
          <a:blip r:embed="rId6"/>
          <a:stretch/>
        </p:blipFill>
        <p:spPr>
          <a:xfrm>
            <a:off x="3429000" y="2532240"/>
            <a:ext cx="1397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e m’appell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Natasha Gorman.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J’ai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 37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s.  J’habite à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Oromocto.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s parents sont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Arthur et Christina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Ma couleur préférée c’est l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viole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1866960" cy="2457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3"/>
          <a:stretch/>
        </p:blipFill>
        <p:spPr>
          <a:xfrm>
            <a:off x="6705720" y="1666800"/>
            <a:ext cx="1962000" cy="2324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4"/>
          <a:stretch/>
        </p:blipFill>
        <p:spPr>
          <a:xfrm>
            <a:off x="3652920" y="1677960"/>
            <a:ext cx="1838160" cy="2476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6"/>
          <a:stretch/>
        </p:blipFill>
        <p:spPr>
          <a:xfrm>
            <a:off x="5638680" y="4229280"/>
            <a:ext cx="1857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tasha est mon nom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drew est mon mar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ash est mon sobrique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ime mes fils, Logan et Emery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ourire toujours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ckey est mon sport préferé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ime faire le camping en ét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le couleur viole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faire le camping avec ma famil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faire la bicyclette avec ma famil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regarder les matchs de hocke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beaucoup le chocola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32:11Z</dcterms:created>
  <dc:creator>ED18</dc:creator>
  <dc:description/>
  <dc:language>en-US</dc:language>
  <cp:lastModifiedBy>ED18</cp:lastModifiedBy>
  <dcterms:modified xsi:type="dcterms:W3CDTF">2012-09-21T12:47:15Z</dcterms:modified>
  <cp:revision>13</cp:revision>
  <dc:subject/>
  <dc:title>Au Sujet de moi</dc:title>
</cp:coreProperties>
</file>